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FB8-E972-4F1A-8733-421D1458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D4C-3368-4446-B179-5A28551E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1CC-E92A-4D45-8DC3-BB597B11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F43-E6CA-4662-973F-49BDB5D8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B07-D0E2-4ECE-97BA-89B3A0B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4FB-D362-4434-BF43-5249C433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8F0-089C-475D-95A4-57B88891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36E-CDC3-44DA-A65C-DD1D8844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0FD-FBF1-403E-8C86-55EBFA56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021-8326-4BD3-9B62-61F2DA78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F49-CF9B-467C-AE99-14EF99C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FAA-8191-48D1-B7F4-5F33D033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34CC-3F1B-4DB4-B969-4814DE7FF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Turk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urkey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at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758960"/>
            <a:ext cx="7086600" cy="5099040"/>
          </a:xfrm>
          <a:prstGeom prst="rect">
            <a:avLst/>
          </a:prstGeom>
          <a:ln w="0">
            <a:noFill/>
          </a:ln>
        </p:spPr>
      </p:pic>
      <p:pic>
        <p:nvPicPr>
          <p:cNvPr id="70" name="turkey" descr=""/>
          <p:cNvPicPr/>
          <p:nvPr/>
        </p:nvPicPr>
        <p:blipFill>
          <a:blip r:embed="rId2"/>
          <a:stretch/>
        </p:blipFill>
        <p:spPr>
          <a:xfrm>
            <a:off x="3657600" y="5029200"/>
            <a:ext cx="16765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anywher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ess he’s hi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urkey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urkey" descr=""/>
          <p:cNvPicPr/>
          <p:nvPr/>
        </p:nvPicPr>
        <p:blipFill>
          <a:blip r:embed="rId1"/>
          <a:stretch/>
        </p:blipFill>
        <p:spPr>
          <a:xfrm>
            <a:off x="7391520" y="4549680"/>
            <a:ext cx="24382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Thanksgiving time. But where is the turk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urkey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50496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urkey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2133720" cy="2019240"/>
          </a:xfrm>
          <a:prstGeom prst="rect">
            <a:avLst/>
          </a:prstGeom>
          <a:ln w="0">
            <a:noFill/>
          </a:ln>
        </p:spPr>
      </p:pic>
      <p:pic>
        <p:nvPicPr>
          <p:cNvPr id="47" name="tree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305160" cy="529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behind the tr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under the bus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urkey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504960" cy="331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668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in the hou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19560" cy="5267520"/>
          </a:xfrm>
          <a:prstGeom prst="rect">
            <a:avLst/>
          </a:prstGeom>
          <a:ln w="0">
            <a:noFill/>
          </a:ln>
        </p:spPr>
      </p:pic>
      <p:pic>
        <p:nvPicPr>
          <p:cNvPr id="55" name="turkey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9903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in the y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urkey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905120" cy="180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key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2133360" cy="20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7010280" cy="4637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in the dog hou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urkey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2133720" cy="201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248160" cy="478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in the c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’s not on the b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urkey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213336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28800" y="1782720"/>
            <a:ext cx="5634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21:31:32Z</dcterms:created>
  <dc:creator>Dan White</dc:creator>
  <dc:description/>
  <dc:language>en-US</dc:language>
  <cp:lastModifiedBy>Dan White</cp:lastModifiedBy>
  <dcterms:modified xsi:type="dcterms:W3CDTF">2001-07-02T12:16:01Z</dcterms:modified>
  <cp:revision>9</cp:revision>
  <dc:subject/>
  <dc:title>Where is the Turkey?</dc:title>
</cp:coreProperties>
</file>